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44BEF-D2B7-4100-AA72-ABBF09C79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users.rcn.com/jkimball.ma.ultranet/BiologyPages/D/DNAReplication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sharonchoi-sbi4u.blogspot.com/2010/09/dna-replication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accessexcellence.org/RC/VL/GG/possible.php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71FE-194E-4A96-B72B-1966AB0A4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026F-BABF-45D3-9FB5-B82A27449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31F9-B2B0-49AF-85B5-313E7B199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BD0F-EE95-4048-B66B-0E5830062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78F3-2E0F-4441-8D77-5575C8547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3B78-8D7A-48CF-A32B-D54A1E709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4A87-2BBB-4905-997A-1C8B1789B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4A14-A79E-46AF-8C0A-215CBECDE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83BF-984F-4152-89B7-BDCD6DF9C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0B3A-4468-46B1-B662-3C2E3E7E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A36D-8175-4414-A323-E0050B39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3140-20EF-438E-A4E5-14BEC2F5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5D0DB-078F-4568-8F9B-1CC13E9D31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Re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Re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a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ynthesizes an RNA primer of 10-60 base pairs to the template str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NA polymerase II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dds complementary nucleoside triphosphates in the 5’ to 3’ direction to the RNA pri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867280" y="5181480"/>
            <a:ext cx="2210040" cy="12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Re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ading str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built continuousl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owa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replication f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gging str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buil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w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the replication fork, and is built in short segments 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kazaki fra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Re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550960" y="1981080"/>
            <a:ext cx="4042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Re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90480" y="1981080"/>
            <a:ext cx="7763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Re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NA polymerase 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moves RNA primers (from both the leading and lagging strands) and replaces them with deoxyribonucleot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NA liga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joins Okazaki fragments into one strand, through creation of phosphodiester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Re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NA polymerase I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NA polymerase 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eck new strands of DNA for errors as they are synthes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 a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onuclea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excising incorrect nucleotides and adding the correct nucleotides to the str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ces between Prokaryotic &amp; Eukaryotic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usually onl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ne replication orig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prokaryotic DNA,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ore than one replication orig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eukaryotic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ces between Prokaryotic &amp; Eukaryotic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rokaryotic cells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NA polymerase I, II, and II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unction in replication and repair;  in eukaryotic cells, there a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ore than 3 different types of DNA polymer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f-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nteractive animation with questions is a good self-study t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DNA Replic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http://www.wiley.com/legacy/college/boyer/0470003790/animations/animations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fantastic website.  At this part of the site there are multiple-choice problem sets.  Try the problem sets on Meselson-Stahl and DNA replication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</a:rPr>
              <a:t>http://www.biology.arizona.edu/molecular_bio/problem_sets/nucleic_acids/nucleic_acids_1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Graw-Hill narrated animation of DNA replic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</a:rPr>
              <a:t>http://highered.mcgraw-hill.com/sites/0072437316/student_view0/chapter14/animations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Re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replication is essential for cell di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DNA replicati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mi-conserva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erva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’m not a huge fan of this site, but it shows the molecule structure of DNA and the enzymes in the animation of DNA replica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http://www.johnkyrk.com/DNAreplicatio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mi-conservati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373480" y="1981080"/>
            <a:ext cx="4397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selson &amp; Stahl (195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w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scherichia col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um containing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(heavy isotope of nitrogen) for 17 gen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ured that bacterial DNA was labelled with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selson &amp; Stahl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the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-labelled bacteria into a medium containing only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and allowed it to g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d centrifuged samples of the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-labelled 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selson &amp; Stahl Experim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 at: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</a:rPr>
              <a:t>http://highered.mcgraw-hill.com/sites/0072437316/student_view0/chapter14/animation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of Meselson &amp; Stahl experi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ould the results have been if DNA replication was conservati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09680" y="2743200"/>
            <a:ext cx="448308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Replication 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143000" y="2438280"/>
          <a:ext cx="6858000" cy="304776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A helic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m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oisomera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A polymerase 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A polymerase 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A lig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Re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NA helica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reaks H-bonds between complementary base pairs, unwinding the double hel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ngle-stranded binding proteins (SSBs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ind to the unwound single strands of DNA to prevent the H-bonds from refo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Re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oisomera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lieve tension caused by the unwinding of the double hel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cut both strands and allow them to swivel around each other, then reseal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02:41:59Z</dcterms:created>
  <dc:creator>rubina khan</dc:creator>
  <dc:description/>
  <dc:language>en-US</dc:language>
  <cp:lastModifiedBy>rubina khan</cp:lastModifiedBy>
  <dcterms:modified xsi:type="dcterms:W3CDTF">2013-11-11T17:59:34Z</dcterms:modified>
  <cp:revision>91</cp:revision>
  <dc:subject/>
  <dc:title>Molecular Genetics</dc:title>
</cp:coreProperties>
</file>